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359B-68BC-4DC8-A18A-934486CE9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ter t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ilizing or learning an appl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s t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, modeling,circuitry, most likely not related to comp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three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design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the design cycle  I.e. just typing a one page paper will not really fit for part of the IB credit but a full research document that follows the process w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areas of inte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does that mea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 quality doc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 jour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can be part of sms classes, both  tech and core acade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ep a record of the process and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will keep n electronic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facts to be chosen and evaluated by core academic teac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folio to be electronically assembled and put on CD at dates to be specified in Dec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097B-100A-47CB-867E-F15D0AB2D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3569-EBAF-42F9-AE04-909D2055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E9F6-8E5D-4B62-8268-0CFF4CC9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0D5E-F6EE-4DF0-80B2-3213BB62F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B9EE-7D3A-4719-BA37-9534E95D3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C656-D71F-4D66-BDBB-B2B8E056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CC87-168C-4FFA-BDFB-8716351C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02C6-381E-41C2-B22A-66F6F46A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D33A-F512-44A0-A97F-D3A7C329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E784-552D-47FA-9A9B-56A97555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943D-BB8F-4C85-86FA-E370CCEC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6359-6F2E-4135-B44E-A715B430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C6E1-EC93-4070-95BC-F575E361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92CF-E97A-4C82-8FF4-5AE666C6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74E3-F4EC-4647-AB77-9AB51598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30E3-D3DF-4B1E-A5B1-1AE237820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9B08-0124-4AFE-8DE7-697D18EE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81E1-5258-47CD-B46B-DFB17230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715F-2B14-41AE-A434-B514B917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B05B-65CE-46BE-BA67-2B3635AB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2063-6A1B-4DF9-AB32-3F5AFD56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2045-1208-4622-A289-AA096F46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ECC2-834D-401A-A4C1-88BB26C4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8143-3E7D-4FBE-B4F5-FDDBEBD6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0099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0099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0099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39B7-97FE-4859-991B-CCCF1E507085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0099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0099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0099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7FCB-1D64-462F-B96D-6543FB5CA102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8f8f8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m-w.com/cgi-bin/dictionary?book=Dictionary&amp;va=engineering+" TargetMode="External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66"/>
                </a:solidFill>
                <a:latin typeface="Times New Roman"/>
              </a:rPr>
              <a:t>MYP IB TECHNOLOGY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Parents and Students Need To Know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50 hours of technology work is 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required for MYP IB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22960" y="5486400"/>
            <a:ext cx="854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Worth Checking Out The MYP IB web sit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MS Sans Serif"/>
              </a:rPr>
              <a:t>http://www.ibo.org/ibo2/en/programmes/prg_myp_cv.cfm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What Is Technology?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1 a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the practical application of knowledge especially in a particular area 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: </a:t>
            </a:r>
            <a:r>
              <a:rPr b="0" lang="en-US" sz="2400" spc="-1" strike="noStrike" u="sng">
                <a:solidFill>
                  <a:srgbClr val="009966"/>
                </a:solidFill>
                <a:uFillTx/>
                <a:latin typeface="Times New Roman"/>
                <a:hlinkClick r:id="rId2"/>
              </a:rPr>
              <a:t>ENGINEERING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2 &lt;medical </a:t>
            </a:r>
            <a:r>
              <a:rPr b="0" i="1" lang="en-US" sz="2400" spc="-1" strike="noStrike">
                <a:solidFill>
                  <a:srgbClr val="f8f8f8"/>
                </a:solidFill>
                <a:latin typeface="Times New Roman"/>
              </a:rPr>
              <a:t>technology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&gt; 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a capability given by the practical application of knowledge &lt;a car's fuel-saving </a:t>
            </a:r>
            <a:r>
              <a:rPr b="0" i="1" lang="en-US" sz="2400" spc="-1" strike="noStrike">
                <a:solidFill>
                  <a:srgbClr val="f8f8f8"/>
                </a:solidFill>
                <a:latin typeface="Times New Roman"/>
              </a:rPr>
              <a:t>technology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Merriam-WebsterOnline http://www.m-w.com/cgi-bin/dictionar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Computer technology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MYP IB uses these 2 categorie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Design technology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MYP IB Technology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Informatio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Materials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System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Design Cycl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Investigatio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Planning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Creatio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Evaluatio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27" name="aoi" descr=""/>
          <p:cNvPicPr/>
          <p:nvPr/>
        </p:nvPicPr>
        <p:blipFill>
          <a:blip r:embed="rId2"/>
          <a:stretch/>
        </p:blipFill>
        <p:spPr>
          <a:xfrm>
            <a:off x="1219320" y="3733920"/>
            <a:ext cx="35668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What does your student really have to do?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50 hours of documented technology work!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Where? How? When?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Process journa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Products and evaluation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817640" y="1857240"/>
            <a:ext cx="5508720" cy="3063960"/>
            <a:chOff x="1817640" y="1857240"/>
            <a:chExt cx="5508720" cy="3063960"/>
          </a:xfrm>
        </p:grpSpPr>
        <p:sp>
          <p:nvSpPr>
            <p:cNvPr id="131" name=""/>
            <p:cNvSpPr/>
            <p:nvPr/>
          </p:nvSpPr>
          <p:spPr>
            <a:xfrm>
              <a:off x="1817640" y="1857240"/>
              <a:ext cx="5508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17640" y="1857240"/>
              <a:ext cx="5508720" cy="30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95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he Tech 15 Hour Guarante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Electronic Portfolio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t least 15 hours of work to assemble and produce Electronic Portfolio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What If?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My student does not take any tech classes at SMS?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I’m not sure what fits for MYP IB technology credit?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re there any after school technology activities available?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How can I get help?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Questions???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15:07:58Z</dcterms:created>
  <dc:creator>Summit School District RE-1</dc:creator>
  <dc:description/>
  <dc:language>en-US</dc:language>
  <cp:lastModifiedBy>Summit School District RE-1</cp:lastModifiedBy>
  <dcterms:modified xsi:type="dcterms:W3CDTF">2001-10-22T15:39:39Z</dcterms:modified>
  <cp:revision>11</cp:revision>
  <dc:subject/>
  <dc:title>MYP IB TECHNOLOGY</dc:title>
</cp:coreProperties>
</file>